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CE3-6C7E-4958-A3C8-8AD14E23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FEF-F244-42E3-B5E3-D5E72EF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F57-66B3-4C31-9628-FAA3C5FF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577-30A4-4DC5-8C36-85B25F12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8EF-F2BD-46D9-ABBB-0629BC0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3E3-6238-4D0F-9818-D09E47EF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67C-819D-49A5-A3D8-90DDBB1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4DC-5AB7-4117-B8C2-E5E14F8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8E3-0968-4538-9B2A-EA402659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413-F882-40A1-95FF-63036B2C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058-EE0D-42E1-A897-6879284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8CB-705C-439B-B9D5-6E9E57F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6DFA-2456-43E6-BC49-BF897B32E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62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o you wonder about some things?  Do you know why your eyes sometimes water on a warm day?  When we are searching for answers, whom can we ask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2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 fantasy about an ant with a question.  Whom does the ant check with to find the answer?  What does he find out?  Why is the ant shock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6868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8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inosaur eggs hatched!  Did that really happen?  Or did Ollie just think that it did?  Listen again.  See what you think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 animals eat the strangest things!  Today we will read about the anteater.  Anteaters search for food in an unusual way.  How do you think anteaters sear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week we read about asking questions.  What did we find out about whom we can ask when we are looking for answers?  Where can we inquir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 </cp:lastModifiedBy>
  <dcterms:modified xsi:type="dcterms:W3CDTF">2007-05-04T16:03:03Z</dcterms:modified>
  <cp:revision>37</cp:revision>
  <dc:subject/>
  <dc:title> Morning Warm- Up! The cat needs some water.  The dog wants a bone.  That bird lives in a birdhouse where she feels quite at home.  How do people take care of pets?</dc:title>
</cp:coreProperties>
</file>